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59F8-2B68-4E3D-A9D1-A365AC52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A40-88A5-4DF9-9127-F308CBBC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8BD0-734E-4AAE-92E5-71216DAF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13B-C8F8-4728-ADF8-3D7E7996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8BA6-D57F-4A7E-B25E-16CFFA8D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D641-F169-4F13-A2BE-8B4668EB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3EA9-6076-49EF-A361-7B7F9311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F2D3-C6DC-44A4-AA15-184C8C4B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07CF-8F23-40CE-8099-BA3F076A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EC2B-9EF7-43D4-B3B7-4911C040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29DA-321A-48DC-A5FE-DFD5FBB7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057-2B93-4D0B-80C9-E0DFF945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A9D1-ABD7-41D5-959B-325574A3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C733-4173-450C-9AF9-B4907801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C56E-6738-4830-8D4C-CC2EDAA4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074D-EF04-4AA5-9C70-07DC1CDE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3781-6373-4BD3-9D4E-45B5B324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04EDE-00EA-46B1-8225-03C103A5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3E8BC-CC8E-4380-9B6E-AA3B0671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36840-3954-4D2B-BB30-AFDCFF78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84B8-A090-4A7C-A4B5-0370F6F3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C799C-313E-4B8B-98BC-60914430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E69E-5011-4EF9-9063-4D612C20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AA8E9-F042-44F7-8787-6AF7E35F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4653A-A108-4F57-AD44-B9B8F249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D13A3-8FF3-4CFF-81AC-20446A34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C743A-824D-46A9-9722-FBC5B371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0D53C-C85F-4A16-9455-D7A500DE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5224E-8D6F-4B2E-8672-376A74B0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26A9E-0D98-422F-A223-EB3B514B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1018F-4C23-46CA-8EAF-72B7A16F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44079-D1B2-44C9-AC93-4823B92D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B550E-FC7E-4F21-9D5C-A5E0FADD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6B9E-F8D3-42F7-9E0E-133DD815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FE863-1382-4D10-8B91-6C697443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247FE-B3AE-4DB1-A582-2C3D220E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2AE92-32F4-4CD5-9525-322FAA86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59671-12C4-428E-BB17-4A63F628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E51DB-D4C5-40A9-B422-05090A34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1B947-BA02-4138-95C7-7E1AB9FD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3547F-CF45-4B1A-BB4E-1012EC6F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76029-B1E1-4E1D-9542-7F409E57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7A21F-CAA8-429F-9F0B-1805CD75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1ACB-1407-4D7D-AB38-CD6B8907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675-054E-4CC0-853D-85BDD004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9EB-6A82-40CE-81CD-A8ECB742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56C-FFDD-4C0B-BEEB-257F67FF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1A1-9FA8-4A80-AA8E-7099901C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8D71-110B-456E-844E-D1663581E28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A854-3892-4EB3-B292-94BA20E54E1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B6F0-A457-4D51-9DEE-44AC7685D40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DD97-19E8-481A-B7B0-E793517E75B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719280"/>
            <a:ext cx="786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1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 a comment to your previous program to explain who created it, when, and for which purpo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42E9-6D5E-4872-8067-E55ADB0DF26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ata Typ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: +ve or –ve natural numb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: +ve or –ve decimal numb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10.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“Hello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CF13-1801-4BFF-8C8D-AE839BD6C1E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a function called myCircle() tha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r as 10.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pi as 3.1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the area of the circle as pi*r*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the  perimeter of the circle as 2*pi*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the following mess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circle with radius …, area=… and perimeter=….”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replaced the dots before with the radius, calculated area, and calculated perimet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r to be 20.5 and re-execute the 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7586-770E-4058-92E6-F331436D471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tiv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e programming, using the Jython programming languag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will be written using the Jython Environment for Students (J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end of this tutorial, you should be familiar wi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vari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consta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FE19-8402-42D6-A1D5-C4FC5B4D107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Jython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ython is an implementation of the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yth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nguage written in the java programming langu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ays of writing cod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box (for codes you want to save in fil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 box (interactive window) for ad-hoc co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D85C-A9C5-44B9-AA1D-B3D09FE4682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Content Placeholder 6" descr="JESBlackWindow.png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62360"/>
          </a:xfrm>
          <a:prstGeom prst="rect">
            <a:avLst/>
          </a:prstGeom>
          <a:ln w="0">
            <a:noFill/>
          </a:ln>
        </p:spPr>
      </p:pic>
      <p:sp>
        <p:nvSpPr>
          <p:cNvPr id="2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B460-40FE-4E69-99C3-CA598A3BBEE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J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interactive window (black box), writ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"Hello World!“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"Hello” + “ python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 "Hello” + “ JES“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ust add a space before the second w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get the last typed statement by using upper arr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use double quotes before and after tex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974D-2393-47EA-AFE8-58A34F024BD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can be written only in white bo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funcName(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“Hello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take care that you must make inden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xecute a func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ve it first with to a fi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 load butt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black box write:  funcName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209F-B498-4A5C-B420-D826699D80C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th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s your name and your ID; e.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434960" indent="-4572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a Said:  1300999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x=10, y=20, pri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/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70EC-4527-486A-BFEE-0FFA724F5AF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your output should look lik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a Said: 134898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y = 3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y=20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/y=0.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y=-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037E-2D9C-4CC3-AF51-B12B3BD6F89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s are very important for documen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not being executed. This is just for your underst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write a commen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# in the beginning of the stat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his program was created by Dina Said as an example for CPSC771, week1-lab1 of problem solving on March 4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09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D6B1-A4EC-48EF-9541-84E1F8985F4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3-04T19:56:12Z</dcterms:modified>
  <cp:revision>152</cp:revision>
  <dc:subject/>
  <dc:title>CPSC 203</dc:title>
</cp:coreProperties>
</file>